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E78-AAD7-4B0F-B7BF-EBD6C3F9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F3E-3CE1-45DA-B1C9-A3085FE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765-7E08-456D-B483-5A1EF1F6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981-A257-49B4-BE8D-A3E4A85D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7861-047C-4105-8049-4143EE6F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74B8-B2E3-4751-B3A2-C08054D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4AE4-3866-4999-B41E-C6076645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ABE0-8FAE-4867-AD93-1559C59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1E4-209F-4280-9C88-3C4833D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3F0-F904-4023-A0E8-10C50D29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736D-DC41-4200-A6BE-18F7254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03E-9A4F-4895-A769-26D214B4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DD1F-C2C3-4872-99D9-630E560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975A-6F48-410D-9A17-571550E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68A-0DE8-4ADC-B790-4483AA02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1667-5B26-44B8-8987-1F59A8C0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5F15-D046-4BD6-960F-321136DF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028-8072-4786-A228-22E463FD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4C4-9096-4D5B-B7C7-FD0EDCC8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B6D-DAE6-4D3C-94E0-E56BA81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1A3-97A6-4AC3-8098-7AA7AC38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11D-DC51-46C1-AC77-DE455147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D58-9EFD-4D4A-B14C-085D818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B0D-6576-4CB7-95C8-D85C6D3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EB15-2513-493A-82C1-36D9FC91D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B26A-8F54-4907-A4FB-E54F0F313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nguin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organ Shock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70160" y="2446200"/>
            <a:ext cx="46022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o you like penguins?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live in Antarctic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uins’ spring is in Sept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34320" y="3809880"/>
            <a:ext cx="1193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protect themselves in the snow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uins have to eat healthy food. Penguins  feed their babies everyday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03800" y="2819520"/>
            <a:ext cx="30402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eat fish, krill, and squid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uins have to jump in the water. The penguins lay their eg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y penguins live in the eg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nguins are bi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1193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are cool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44800" y="2440080"/>
            <a:ext cx="14544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54:46Z</dcterms:modified>
  <cp:revision>6</cp:revision>
  <dc:subject/>
  <dc:title>Animal Name</dc:title>
</cp:coreProperties>
</file>